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81A6-104F-4635-B26E-5C5D6FFBC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2274-07F3-4464-A65F-C79244433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FAC6-DA25-41A1-BB89-DB47693E6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BD0E-AE1C-45F5-92DB-B6DE3FCB4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883C8-EBC0-48B7-A3F2-4824E5C0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0F553-7C07-4C85-87F2-87EA308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C6B60-99A1-4038-A3D1-20519B5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D6607-1A73-4308-976F-294E1A8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0339-ED55-4B0D-902A-7DF1E38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FF9A-2916-488B-8A62-129D72D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DCA5-4FFB-4EDE-BBC2-DBD8E86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4EA8-22DD-4366-936D-DE009A426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D67C-900C-46FA-9475-DD531D6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57142-CAA2-447C-BF86-B0E965E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B357-C913-46FE-B669-93CA7CAA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17EB1-8877-4470-89CA-4D7F4F97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D1F88-A70D-4BAC-9B17-60FBA32F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1263-0D2A-4BFD-BEC2-9C8D98791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1AAE-4333-4E06-8A9D-E402489A5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43D3-1296-4B4E-8C70-F514A4F24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4E01-6996-4B92-8C91-2B7131BAE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9591-D2F1-4FDA-AD8E-45D9B2FD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BB1B-61E6-4D40-828D-1E1C9DB1C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04D5-8822-441D-9D28-251378093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68B-0D5C-43D3-BE27-05F0249C2CA4}" type="slidenum">
              <a:rPr b="0" lang="ru-RU" sz="1200" spc="-1" strike="noStrike">
                <a:solidFill>
                  <a:srgbClr val="7c4d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4d3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0E5-BA99-425E-9FE7-BDCE7027E89F}" type="slidenum">
              <a:rPr b="0" lang="ru-RU" sz="1200" spc="-1" strike="noStrike">
                <a:solidFill>
                  <a:srgbClr val="7c4d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hyperlink" Target="file:///&#1043;&#1083;&#1072;&#1074;&#1072;%201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&#1043;&#1083;&#1072;&#1074;&#1072;%202.ppt" TargetMode="External"/><Relationship Id="rId6" Type="http://schemas.openxmlformats.org/officeDocument/2006/relationships/image" Target="../media/image7.png"/><Relationship Id="rId7" Type="http://schemas.openxmlformats.org/officeDocument/2006/relationships/hyperlink" Target="file:///&#1043;&#1083;&#1072;&#1074;&#1072;%203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&#1043;&#1083;&#1072;&#1074;&#1072;%205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&#1043;&#1083;&#1072;&#1074;&#1072;%204.ppt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hyperlink" Target="file:///&#1043;&#1083;&#1072;&#1074;&#1072;%207.ppt" TargetMode="External"/><Relationship Id="rId4" Type="http://schemas.openxmlformats.org/officeDocument/2006/relationships/image" Target="../media/image7.png"/><Relationship Id="rId5" Type="http://schemas.openxmlformats.org/officeDocument/2006/relationships/hyperlink" Target="file:///&#1043;&#1083;&#1072;&#1074;&#1072;%208.ppt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&#1055;&#1088;&#1080;&#1083;&#1086;&#1078;&#1077;&#1085;&#1080;&#1077;%20&#1040;.ppt" TargetMode="External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25560" y="397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9e2"/>
                </a:solidFill>
                <a:latin typeface="Verdana"/>
              </a:rPr>
              <a:t>ОРГАНИЗАЦИЯ ПРОИЗВОДСТВА НА ПРЕДПРИЯТИЯХ ОТРАС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38040" y="395280"/>
            <a:ext cx="2293920" cy="2457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0" y="400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РГАНИЗАЦИЯ ПРОИЗВОДСТВА НА ПРЕДПРИЯТИЯХ ОТРАС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19280" y="551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назначено для студентов специальности 080502.65 «Экономика и управление на предприяти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5393520" y="115920"/>
            <a:ext cx="284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fbee"/>
                </a:solidFill>
                <a:latin typeface="Verdana"/>
              </a:rPr>
              <a:t>Автор составитель: к.т.н., доц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fbee"/>
                </a:solidFill>
                <a:latin typeface="Verdana"/>
              </a:rPr>
              <a:t>ЗУБРИЦКАС Игорь Ионасо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042920" y="26028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fbee"/>
                </a:solidFill>
                <a:latin typeface="Verdana"/>
              </a:rPr>
              <a:t>ОРГАНИЗАЦИЯ ПРОИЗВОДСТВА НА ПРЕДПРИЯТИЯХ ОТРА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8720" y="1195560"/>
            <a:ext cx="536400" cy="420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619280" y="1125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1. Основные положения по управлению производством ТО и Р автомоби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619280" y="21351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2. Формы и методы организации системы управления производством на АТ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619280" y="31431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3. Методы принятия решения в условиях дефицита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619280" y="40784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4. Информационное обеспечение системы управления производством на АТ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1800" y="2249640"/>
            <a:ext cx="536400" cy="4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1800" y="3255840"/>
            <a:ext cx="536400" cy="42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1800" y="5175360"/>
            <a:ext cx="536400" cy="414360"/>
          </a:xfrm>
          <a:prstGeom prst="rect">
            <a:avLst/>
          </a:prstGeom>
          <a:ln w="0">
            <a:noFill/>
          </a:ln>
        </p:spPr>
      </p:pic>
      <p:sp>
        <p:nvSpPr>
          <p:cNvPr id="110" name="Down Arrow 17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8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1800" y="4218120"/>
            <a:ext cx="536400" cy="420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1619280" y="50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5. Использование компьютерной и сетевой техники при управлении производством на АТ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042920" y="26028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fbee"/>
                </a:solidFill>
                <a:latin typeface="Verdana"/>
              </a:rPr>
              <a:t>ОРГАНИЗАЦИЯ ПРОИЗВОДСТВА НА ПРЕДПРИЯТИЯХ ОТРА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8720" y="2438280"/>
            <a:ext cx="536400" cy="414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1619280" y="22780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7. Перспективы развития технической эксплуатации автомоби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19280" y="32148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8. Организация производственного учета при техническом обслуживании и ремонте автомоби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664280" y="42116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ложение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675440" y="48610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онтрольные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721160" y="550692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иблиографический спис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8720" y="3297240"/>
            <a:ext cx="536400" cy="42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8720" y="4164120"/>
            <a:ext cx="536400" cy="41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"/>
          <p:cNvPicPr/>
          <p:nvPr/>
        </p:nvPicPr>
        <p:blipFill>
          <a:blip r:embed="rId9"/>
          <a:stretch/>
        </p:blipFill>
        <p:spPr>
          <a:xfrm>
            <a:off x="828720" y="4883040"/>
            <a:ext cx="536400" cy="42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"/>
          <p:cNvPicPr/>
          <p:nvPr/>
        </p:nvPicPr>
        <p:blipFill>
          <a:blip r:embed="rId10"/>
          <a:stretch/>
        </p:blipFill>
        <p:spPr>
          <a:xfrm>
            <a:off x="828720" y="5602320"/>
            <a:ext cx="536400" cy="420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11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"/>
          <p:cNvPicPr/>
          <p:nvPr/>
        </p:nvPicPr>
        <p:blipFill>
          <a:blip r:embed="rId12"/>
          <a:stretch/>
        </p:blipFill>
        <p:spPr>
          <a:xfrm>
            <a:off x="828720" y="1139760"/>
            <a:ext cx="536400" cy="414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1619280" y="90792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а 6. Специализированное программное обеспечение для организации системы управления производством на АТ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(см. главу 4. «Программное обеспечение задач автомобильного транспорта»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042920" y="26028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КОНТРОЛЬНЫЕ 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900000" y="83664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нятие об управлении и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ояние и научный уровень действующей системы управления техническим состоя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посылки создания новой системы управления техническим состоя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ые задачи и ресурсы инженерно-технической служ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онно-производственная структура инженерно-технической службы. Методы организ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организации  и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ование и уч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еративное управ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горитм и классификация методов принятия реш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грация мнения специалистов и принятие решений в условиях дефицита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приорное ранжиров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нение метода Дельфи при выработке реш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и  методы получения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ументооборот, планирование и учет в системах поддержания работо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Down Arrow 5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1042920" y="26028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КОНТРОЛЬНЫЕ 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826920" y="1052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ципы построения информационных сист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руктура и функционирование информационных систем управления производств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збумажные технологии и средства идентифик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нсивная и экстенсивная формы развития производ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кторы, определяющие научно-технический прогресс в сфере технической эксплуатации автомобил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ершенствование системы обеспечения работоспособности автомобил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тие новых информационных технолог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тие и совершенствование систем управления качеств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производственного учета при организации технической эксплуатации ПС на предприятиях 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я производственного учета для оценки работоспособности автомобиля и экономии ресур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0:00:16Z</dcterms:created>
  <dc:creator>Admin</dc:creator>
  <dc:description/>
  <dc:language>en-US</dc:language>
  <cp:lastModifiedBy>Admin</cp:lastModifiedBy>
  <dcterms:modified xsi:type="dcterms:W3CDTF">2009-08-24T11:03:57Z</dcterms:modified>
  <cp:revision>21</cp:revision>
  <dc:subject/>
  <dc:title>PowerPoint Presentation</dc:title>
</cp:coreProperties>
</file>