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.png" ContentType="image/png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9.wmf" ContentType="image/x-wmf"/>
  <Override PartName="/ppt/media/image32.wmf" ContentType="image/x-wmf"/>
  <Override PartName="/ppt/media/image3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5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64.wmf" ContentType="image/x-wmf"/>
  <Override PartName="/ppt/media/image66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23.wmf" ContentType="image/x-wmf"/>
  <Override PartName="/ppt/media/image10.png" ContentType="image/png"/>
  <Override PartName="/ppt/media/image50.wmf" ContentType="image/x-wmf"/>
  <Override PartName="/ppt/media/image14.wmf" ContentType="image/x-wmf"/>
  <Override PartName="/ppt/media/image3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17.wmf" ContentType="image/x-wmf"/>
  <Override PartName="/ppt/media/image42.wmf" ContentType="image/x-wmf"/>
  <Override PartName="/ppt/media/image43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7.png" ContentType="image/png"/>
  <Override PartName="/ppt/media/image4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2CF2-C1B8-4949-B0C7-F223BFEE8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6672-7A4D-448F-84CE-A8FEF9221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95EE-4A4C-4635-AD1B-818F56A52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B3F0-7BCC-45D8-8DA3-3D665B1E9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A2CA8-06D5-4A34-8D58-25D86783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D94EF-9444-47CC-82D4-8542FCD9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DE6EB-EAC9-4AAF-9F42-748260C3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37D94-282A-49F4-9F8E-13C8FB79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B69D0-DE1C-4282-947D-AC9C0AFA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01975-93C8-4706-BF45-B1FB73C1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FB430-9316-4475-996E-8EA321B5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CC70-6803-445C-8061-C93C0CE28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20658-70AE-477B-A8C5-2393A09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C01A1-EC6D-46C5-83F7-BFDB771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99748-DD3A-44DA-AC8E-056FF7C2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B6BE2-2305-4909-B832-377913F4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74EFE-DD90-4187-A532-6D5D3BBD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1E51-E4F7-4E70-9276-96CF1311F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92A8-9B8D-4B71-8CD9-2DCC0E9FE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EDD6-36C8-4767-A7C4-1BA444FB9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8725-7FCA-4278-B5E0-906E451C3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98E7-BB83-4FF7-906F-7C4C3C76D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0136-9EA5-41A7-8A3C-51F3D5591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54B5-FB01-4050-A0B3-5505BB32D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6E62-2C4C-4FED-8F4D-B1A5CE6FCA06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D998-EF1A-4116-8242-A87B7E7E5991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slide" Target="slide12.xml"/><Relationship Id="rId8" Type="http://schemas.openxmlformats.org/officeDocument/2006/relationships/image" Target="../media/image7.png"/><Relationship Id="rId9" Type="http://schemas.openxmlformats.org/officeDocument/2006/relationships/slide" Target="slide28.xml"/><Relationship Id="rId10" Type="http://schemas.openxmlformats.org/officeDocument/2006/relationships/image" Target="../media/image7.png"/><Relationship Id="rId11" Type="http://schemas.openxmlformats.org/officeDocument/2006/relationships/slide" Target="slide38.xml"/><Relationship Id="rId12" Type="http://schemas.openxmlformats.org/officeDocument/2006/relationships/image" Target="../media/image7.png"/><Relationship Id="rId13" Type="http://schemas.openxmlformats.org/officeDocument/2006/relationships/slide" Target="slide57.xml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image" Target="../media/image10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image" Target="../media/image10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image" Target="../media/image10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9.png"/><Relationship Id="rId4" Type="http://schemas.openxmlformats.org/officeDocument/2006/relationships/slide" Target="slide1.xml"/><Relationship Id="rId5" Type="http://schemas.openxmlformats.org/officeDocument/2006/relationships/image" Target="../media/image10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690560" y="1341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690560" y="2349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692360" y="364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692360" y="4724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2360" y="551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28720" y="1401840"/>
            <a:ext cx="598320" cy="446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Глава 7. Перспективы развития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3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8720" y="2494080"/>
            <a:ext cx="598320" cy="43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28720" y="3749760"/>
            <a:ext cx="598320" cy="43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28720" y="4718160"/>
            <a:ext cx="598320" cy="43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28720" y="5619600"/>
            <a:ext cx="5983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256520" cy="338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157400" y="549360"/>
            <a:ext cx="7159680" cy="630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645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71640" y="1155600"/>
            <a:ext cx="7200720" cy="4865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5542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028880" y="1341360"/>
            <a:ext cx="7359480" cy="457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073160" y="907920"/>
            <a:ext cx="7243920" cy="5256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72440" cy="4967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090440" y="847800"/>
            <a:ext cx="7226640" cy="524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1062000" y="981000"/>
            <a:ext cx="7326360" cy="5316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53440" cy="424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500960" cy="3889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934920" y="1628640"/>
            <a:ext cx="7382160" cy="4208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824040" y="1844640"/>
            <a:ext cx="756432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525080" cy="2728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97040" y="907920"/>
            <a:ext cx="7591320" cy="5970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70720" cy="4292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5"/>
          <p:cNvSpPr/>
          <p:nvPr/>
        </p:nvSpPr>
        <p:spPr>
          <a:xfrm>
            <a:off x="611280" y="169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2. Факторы, определяющие научно-технический прогресс в сфере технической эксплуатаци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963720" y="1413000"/>
            <a:ext cx="7424640" cy="424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05640" cy="351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5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125360" y="549360"/>
            <a:ext cx="7118640" cy="627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060560" y="1125360"/>
            <a:ext cx="7327800" cy="4953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5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321680" cy="532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5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4583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5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971640" y="1898640"/>
            <a:ext cx="7416720" cy="3475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6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971640" y="860400"/>
            <a:ext cx="7315200" cy="5737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5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023840" y="1916280"/>
            <a:ext cx="7435800" cy="3468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154160" y="1125360"/>
            <a:ext cx="7234200" cy="4875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5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3. Совершенствование системы обеспечения работоспособности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1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329600" cy="3040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1015920" y="1989000"/>
            <a:ext cx="7301160" cy="3027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090440" y="922320"/>
            <a:ext cx="7226640" cy="52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942840" y="1341360"/>
            <a:ext cx="7301160" cy="4602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85760" y="1700280"/>
            <a:ext cx="7231320" cy="3779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258920" y="896760"/>
            <a:ext cx="6697800" cy="5988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01080" cy="4479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416720" cy="34592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049400" y="1844640"/>
            <a:ext cx="7338960" cy="3456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014480" y="1844640"/>
            <a:ext cx="7373880" cy="3489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235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116000" y="1978200"/>
            <a:ext cx="7281720" cy="3395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198440" y="981000"/>
            <a:ext cx="7045560" cy="5112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345440" cy="494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201080" cy="3732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129800" cy="4433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6345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345440" cy="2664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492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906480" y="836640"/>
            <a:ext cx="7410600" cy="5759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4. Развитие новых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12" descr=""/>
          <p:cNvPicPr/>
          <p:nvPr/>
        </p:nvPicPr>
        <p:blipFill>
          <a:blip r:embed="rId1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"/>
          <p:cNvPicPr/>
          <p:nvPr/>
        </p:nvPicPr>
        <p:blipFill>
          <a:blip r:embed="rId2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"/>
          <p:cNvPicPr/>
          <p:nvPr/>
        </p:nvPicPr>
        <p:blipFill>
          <a:blip r:embed="rId3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5" descr=""/>
          <p:cNvPicPr/>
          <p:nvPr/>
        </p:nvPicPr>
        <p:blipFill>
          <a:blip r:embed="rId4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1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228080" cy="5245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116000" y="1371600"/>
            <a:ext cx="7245360" cy="4505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54720" cy="41353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031760" y="1557360"/>
            <a:ext cx="7500960" cy="388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340760" cy="4946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070760" cy="5545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182600" y="878040"/>
            <a:ext cx="7134480" cy="6006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26360" cy="53150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1123920" y="549360"/>
            <a:ext cx="7193160" cy="6740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362720" cy="3816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216920" cy="6092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5. Развитие и совершенствование систем управления каче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Picture 12" descr=""/>
          <p:cNvPicPr/>
          <p:nvPr/>
        </p:nvPicPr>
        <p:blipFill>
          <a:blip r:embed="rId1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3" descr=""/>
          <p:cNvPicPr/>
          <p:nvPr/>
        </p:nvPicPr>
        <p:blipFill>
          <a:blip r:embed="rId2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4" descr=""/>
          <p:cNvPicPr/>
          <p:nvPr/>
        </p:nvPicPr>
        <p:blipFill>
          <a:blip r:embed="rId3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5" descr=""/>
          <p:cNvPicPr/>
          <p:nvPr/>
        </p:nvPicPr>
        <p:blipFill>
          <a:blip r:embed="rId4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4160" y="1074600"/>
            <a:ext cx="7234200" cy="487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046160" y="836640"/>
            <a:ext cx="7342200" cy="5329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294320" cy="578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7.1. Интенсивная и экстенсивная формы развития произв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8:56:31Z</dcterms:created>
  <dc:creator>Admin</dc:creator>
  <dc:description/>
  <dc:language>en-US</dc:language>
  <cp:lastModifiedBy>Admin</cp:lastModifiedBy>
  <dcterms:modified xsi:type="dcterms:W3CDTF">2009-08-27T07:48:05Z</dcterms:modified>
  <cp:revision>42</cp:revision>
  <dc:subject/>
  <dc:title>PowerPoint Presentation</dc:title>
</cp:coreProperties>
</file>