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ADFADC-68F2-4AD5-A84D-BAAD44B2ED8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480" y="11304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dc981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076400"/>
            <a:ext cx="81234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440" y="3817800"/>
            <a:ext cx="81234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641E9F-16F6-4B64-B4BF-FE3B0FD8590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11304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dc981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076400"/>
            <a:ext cx="396396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48120" y="1076400"/>
            <a:ext cx="396396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440" y="3817800"/>
            <a:ext cx="396396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848120" y="3817800"/>
            <a:ext cx="396396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FE114F-388A-4909-8FF4-C176AEE3B5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9480" y="11304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dc981"/>
              </a:solidFill>
              <a:latin typeface="Verdan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440" y="1076400"/>
            <a:ext cx="26154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431880" y="1076400"/>
            <a:ext cx="26154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178680" y="1076400"/>
            <a:ext cx="26154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440" y="3817800"/>
            <a:ext cx="26154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431880" y="3817800"/>
            <a:ext cx="26154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178680" y="3817800"/>
            <a:ext cx="26154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CD54FD-40BC-4A58-925E-F2761C34CFB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93298D-1F70-4FA9-B264-F2B3678B0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11304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dc981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685440" y="1076400"/>
            <a:ext cx="8123400" cy="524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EE3096-443C-4ED7-837D-578E36C19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11304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dc981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076400"/>
            <a:ext cx="81234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9DA39C-DA70-4375-AB74-9621F43F7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11304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dc981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440" y="1076400"/>
            <a:ext cx="396396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48120" y="1076400"/>
            <a:ext cx="396396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C062E3-BBC9-4190-BEE4-049D0932E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9480" y="11304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dc981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D75FE5-2C73-425D-B911-BFDD58F51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609480" y="122040"/>
            <a:ext cx="83059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11E3AC-0336-477D-B4D9-79A15E394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11304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dc981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440" y="1076400"/>
            <a:ext cx="396396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48120" y="1076400"/>
            <a:ext cx="396396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440" y="3817800"/>
            <a:ext cx="396396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0D28C8-282D-40F2-B32A-76B8F9262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11304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dc981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440" y="1076400"/>
            <a:ext cx="8123400" cy="524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F03FDF-A107-4299-9247-4F85DA1344E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11304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dc981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440" y="1076400"/>
            <a:ext cx="396396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48120" y="1076400"/>
            <a:ext cx="396396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848120" y="3817800"/>
            <a:ext cx="396396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A8D2B0-546B-4380-87BC-F6EF41391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480" y="11304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dc981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440" y="1076400"/>
            <a:ext cx="396396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48120" y="1076400"/>
            <a:ext cx="396396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440" y="3817800"/>
            <a:ext cx="81234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FB4C05-92C6-4039-80FB-203373543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09480" y="11304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dc981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440" y="1076400"/>
            <a:ext cx="81234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685440" y="3817800"/>
            <a:ext cx="81234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4D50F4-CE07-44D8-9825-4B51D3E49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480" y="11304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dc981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440" y="1076400"/>
            <a:ext cx="396396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48120" y="1076400"/>
            <a:ext cx="396396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440" y="3817800"/>
            <a:ext cx="396396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848120" y="3817800"/>
            <a:ext cx="396396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398EA7-6D78-4919-A48B-32792419D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1304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dc981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440" y="1076400"/>
            <a:ext cx="26154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431880" y="1076400"/>
            <a:ext cx="26154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178680" y="1076400"/>
            <a:ext cx="26154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685440" y="3817800"/>
            <a:ext cx="26154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431880" y="3817800"/>
            <a:ext cx="26154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178680" y="3817800"/>
            <a:ext cx="26154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B0C57D-6736-48BB-985F-453712049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11304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dc981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440" y="1076400"/>
            <a:ext cx="81234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7A8E43-52E2-4074-9AD7-BE35AA46491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11304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dc981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076400"/>
            <a:ext cx="396396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48120" y="1076400"/>
            <a:ext cx="396396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C3B79B-0BB6-4EE2-8626-729F296E4C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480" y="11304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dc981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BF3CF5-8ADC-496C-A3E6-084BAC64927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09480" y="122040"/>
            <a:ext cx="83059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F27646-E412-4399-BA53-7BB97E9CB0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480" y="11304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dc981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440" y="1076400"/>
            <a:ext cx="396396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48120" y="1076400"/>
            <a:ext cx="396396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440" y="3817800"/>
            <a:ext cx="396396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38491B-9974-4150-AB55-68A072693F1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480" y="11304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dc981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440" y="1076400"/>
            <a:ext cx="396396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48120" y="1076400"/>
            <a:ext cx="396396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848120" y="3817800"/>
            <a:ext cx="396396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4D76C0-EC08-4411-84D0-7BFCCF3D9BA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480" y="11304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dc981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440" y="1076400"/>
            <a:ext cx="396396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48120" y="1076400"/>
            <a:ext cx="396396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440" y="3817800"/>
            <a:ext cx="81234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F49E53-6CA3-43BD-8E8C-655D8C3F65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9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5"/>
          <p:cNvSpPr/>
          <p:nvPr/>
        </p:nvSpPr>
        <p:spPr>
          <a:xfrm>
            <a:off x="0" y="-9360"/>
            <a:ext cx="9144000" cy="847440"/>
          </a:xfrm>
          <a:prstGeom prst="rect">
            <a:avLst/>
          </a:prstGeom>
          <a:gradFill rotWithShape="0">
            <a:gsLst>
              <a:gs pos="0">
                <a:srgbClr val="392419"/>
              </a:gs>
              <a:gs pos="100000">
                <a:srgbClr val="7c4d3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Rectangle 16"/>
          <p:cNvSpPr/>
          <p:nvPr/>
        </p:nvSpPr>
        <p:spPr>
          <a:xfrm>
            <a:off x="8964720" y="836640"/>
            <a:ext cx="179280" cy="5832360"/>
          </a:xfrm>
          <a:prstGeom prst="rect">
            <a:avLst/>
          </a:prstGeom>
          <a:gradFill rotWithShape="0">
            <a:gsLst>
              <a:gs pos="0">
                <a:srgbClr val="7c4d36"/>
              </a:gs>
              <a:gs pos="100000">
                <a:srgbClr val="ddc98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Rectangle 17"/>
          <p:cNvSpPr/>
          <p:nvPr/>
        </p:nvSpPr>
        <p:spPr>
          <a:xfrm>
            <a:off x="0" y="836640"/>
            <a:ext cx="611280" cy="6033960"/>
          </a:xfrm>
          <a:prstGeom prst="rect">
            <a:avLst/>
          </a:prstGeom>
          <a:gradFill rotWithShape="0">
            <a:gsLst>
              <a:gs pos="0">
                <a:srgbClr val="d3a553"/>
              </a:gs>
              <a:gs pos="100000">
                <a:srgbClr val="ddc98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Rectangle 18"/>
          <p:cNvSpPr/>
          <p:nvPr/>
        </p:nvSpPr>
        <p:spPr>
          <a:xfrm>
            <a:off x="611280" y="6467400"/>
            <a:ext cx="8532720" cy="405000"/>
          </a:xfrm>
          <a:prstGeom prst="rect">
            <a:avLst/>
          </a:prstGeom>
          <a:solidFill>
            <a:srgbClr val="ddc9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body"/>
          </p:nvPr>
        </p:nvSpPr>
        <p:spPr>
          <a:xfrm>
            <a:off x="685440" y="1076400"/>
            <a:ext cx="81234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b9d5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c4d3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3a55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c4d3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c4d3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c4d3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c4d3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c4d3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c4d3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ftr" idx="1"/>
          </p:nvPr>
        </p:nvSpPr>
        <p:spPr>
          <a:xfrm>
            <a:off x="6095880" y="6461280"/>
            <a:ext cx="289584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sldNum" idx="2"/>
          </p:nvPr>
        </p:nvSpPr>
        <p:spPr>
          <a:xfrm>
            <a:off x="3809520" y="6461280"/>
            <a:ext cx="213372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7c4d36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A56C1-0245-43EE-AD53-181D4B1CA003}" type="slidenum">
              <a:rPr b="0" lang="ru-RU" sz="1200" spc="-1" strike="noStrike">
                <a:solidFill>
                  <a:srgbClr val="7c4d36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title"/>
          </p:nvPr>
        </p:nvSpPr>
        <p:spPr>
          <a:xfrm>
            <a:off x="609480" y="122040"/>
            <a:ext cx="83059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dc981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ddc981"/>
              </a:solidFill>
              <a:latin typeface="Verdana"/>
            </a:endParaRPr>
          </a:p>
        </p:txBody>
      </p:sp>
      <p:pic>
        <p:nvPicPr>
          <p:cNvPr id="8" name="Picture 20" descr=""/>
          <p:cNvPicPr/>
          <p:nvPr/>
        </p:nvPicPr>
        <p:blipFill>
          <a:blip r:embed="rId2"/>
          <a:stretch/>
        </p:blipFill>
        <p:spPr>
          <a:xfrm>
            <a:off x="0" y="-4680"/>
            <a:ext cx="596880" cy="841320"/>
          </a:xfrm>
          <a:prstGeom prst="rect">
            <a:avLst/>
          </a:prstGeom>
          <a:ln w="0">
            <a:noFill/>
          </a:ln>
        </p:spPr>
      </p:pic>
      <p:sp>
        <p:nvSpPr>
          <p:cNvPr id="9" name="Text Box 21"/>
          <p:cNvSpPr/>
          <p:nvPr/>
        </p:nvSpPr>
        <p:spPr>
          <a:xfrm rot="16200000">
            <a:off x="-541800" y="5418720"/>
            <a:ext cx="188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c4d36"/>
                </a:solidFill>
                <a:latin typeface="Verdana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9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22"/>
          <p:cNvSpPr/>
          <p:nvPr/>
        </p:nvSpPr>
        <p:spPr>
          <a:xfrm>
            <a:off x="3132000" y="3716280"/>
            <a:ext cx="5400720" cy="1441440"/>
          </a:xfrm>
          <a:prstGeom prst="rect">
            <a:avLst/>
          </a:prstGeom>
          <a:solidFill>
            <a:srgbClr val="d3a5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Rectangle 19"/>
          <p:cNvSpPr/>
          <p:nvPr/>
        </p:nvSpPr>
        <p:spPr>
          <a:xfrm>
            <a:off x="1600200" y="3716280"/>
            <a:ext cx="1724040" cy="1441440"/>
          </a:xfrm>
          <a:prstGeom prst="rect">
            <a:avLst/>
          </a:prstGeom>
          <a:solidFill>
            <a:srgbClr val="ddc9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8" name="Picture 21" descr=""/>
          <p:cNvPicPr/>
          <p:nvPr/>
        </p:nvPicPr>
        <p:blipFill>
          <a:blip r:embed="rId2"/>
          <a:stretch/>
        </p:blipFill>
        <p:spPr>
          <a:xfrm>
            <a:off x="1609560" y="0"/>
            <a:ext cx="7045560" cy="371628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17"/>
          <p:cNvSpPr/>
          <p:nvPr/>
        </p:nvSpPr>
        <p:spPr>
          <a:xfrm>
            <a:off x="8534520" y="0"/>
            <a:ext cx="609480" cy="6858000"/>
          </a:xfrm>
          <a:prstGeom prst="rect">
            <a:avLst/>
          </a:prstGeom>
          <a:solidFill>
            <a:srgbClr val="7c4d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152280" y="304920"/>
            <a:ext cx="130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Verdana"/>
              </a:rPr>
              <a:t>LOG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AutoShape 23"/>
          <p:cNvSpPr/>
          <p:nvPr/>
        </p:nvSpPr>
        <p:spPr>
          <a:xfrm rot="5400000">
            <a:off x="8057880" y="4163760"/>
            <a:ext cx="1420920" cy="503280"/>
          </a:xfrm>
          <a:prstGeom prst="triangle">
            <a:avLst>
              <a:gd name="adj" fmla="val 50000"/>
            </a:avLst>
          </a:prstGeom>
          <a:solidFill>
            <a:srgbClr val="d3a5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685440" y="1076400"/>
            <a:ext cx="81234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b9d5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c4d3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3a55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c4d3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c4d3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c4d3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c4d3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c4d3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c4d3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title"/>
          </p:nvPr>
        </p:nvSpPr>
        <p:spPr>
          <a:xfrm>
            <a:off x="609480" y="122040"/>
            <a:ext cx="83059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dc981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ddc981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3"/>
          </p:nvPr>
        </p:nvSpPr>
        <p:spPr>
          <a:xfrm>
            <a:off x="456840" y="6553080"/>
            <a:ext cx="2133720" cy="1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4"/>
          </p:nvPr>
        </p:nvSpPr>
        <p:spPr>
          <a:xfrm>
            <a:off x="3124080" y="6553080"/>
            <a:ext cx="2895840" cy="1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c4d36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c4d36"/>
                </a:solidFill>
                <a:latin typeface="Verdana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5"/>
          </p:nvPr>
        </p:nvSpPr>
        <p:spPr>
          <a:xfrm>
            <a:off x="6324120" y="6553080"/>
            <a:ext cx="2133720" cy="1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c4d36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DC671-B5BF-4EC0-B1C6-1C01A40207B8}" type="slidenum">
              <a:rPr b="0" lang="en-US" sz="1200" spc="-1" strike="noStrike">
                <a:solidFill>
                  <a:srgbClr val="7c4d36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hyperlink" Target="file:///&#1054;&#1088;&#1075;&#1072;&#1085;&#1080;&#1079;&#1072;&#1094;&#1080;&#1103;%20&#1087;&#1088;&#1086;&#1080;&#1079;&#1074;&#1086;&#1076;&#1089;&#1090;&#1074;&#1072;%20&#1085;&#1072;%20&#1087;&#1088;&#1077;&#1076;&#1087;&#1088;&#1080;&#1103;&#1090;&#1080;&#1103;&#1093;%20&#1086;&#1090;&#1088;&#1072;&#1089;&#1083;&#1080;.ppt" TargetMode="External"/><Relationship Id="rId3" Type="http://schemas.openxmlformats.org/officeDocument/2006/relationships/image" Target="../media/image4.png"/><Relationship Id="rId4" Type="http://schemas.openxmlformats.org/officeDocument/2006/relationships/hyperlink" Target="file:///&#1054;&#1088;&#1075;&#1072;&#1085;&#1080;&#1079;&#1072;&#1094;&#1080;&#1103;%20&#1087;&#1088;&#1086;&#1080;&#1079;&#1074;&#1086;&#1076;&#1089;&#1090;&#1074;&#1072;%20&#1085;&#1072;%20&#1087;&#1088;&#1077;&#1076;&#1087;&#1088;&#1080;&#1103;&#1090;&#1080;&#1103;&#1093;%20&#1086;&#1090;&#1088;&#1072;&#1089;&#1083;&#1080;.ppt" TargetMode="External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hyperlink" Target="file:///&#1054;&#1088;&#1075;&#1072;&#1085;&#1080;&#1079;&#1072;&#1094;&#1080;&#1103;%20&#1087;&#1088;&#1086;&#1080;&#1079;&#1074;&#1086;&#1076;&#1089;&#1090;&#1074;&#1072;%20&#1085;&#1072;%20&#1087;&#1088;&#1077;&#1076;&#1087;&#1088;&#1080;&#1103;&#1090;&#1080;&#1103;&#1093;%20&#1086;&#1090;&#1088;&#1072;&#1089;&#1083;&#1080;.ppt" TargetMode="External"/><Relationship Id="rId3" Type="http://schemas.openxmlformats.org/officeDocument/2006/relationships/image" Target="../media/image4.png"/><Relationship Id="rId4" Type="http://schemas.openxmlformats.org/officeDocument/2006/relationships/slide" Target="slide1.xml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3"/>
          <p:cNvSpPr/>
          <p:nvPr/>
        </p:nvSpPr>
        <p:spPr>
          <a:xfrm>
            <a:off x="611280" y="241200"/>
            <a:ext cx="835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ef9e2"/>
                </a:solidFill>
                <a:latin typeface="Verdana"/>
              </a:rPr>
              <a:t>БИБЛИОГРАФИЧЕСКИЙ СПИСОК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Down Arrow 10"/>
          <p:cNvSpPr/>
          <p:nvPr/>
        </p:nvSpPr>
        <p:spPr>
          <a:xfrm>
            <a:off x="8532720" y="6499080"/>
            <a:ext cx="432000" cy="358920"/>
          </a:xfrm>
          <a:prstGeom prst="down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Rectangle 4"/>
          <p:cNvSpPr/>
          <p:nvPr/>
        </p:nvSpPr>
        <p:spPr>
          <a:xfrm>
            <a:off x="684360" y="1087560"/>
            <a:ext cx="806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Блудян Н.О. Перспективные принципы совершенствования системы технического обслуживания и ремонта подвижного состава. - М., 1990. - 52 с. - (Автомоб. трансп. Сер. 4, Техн. эксплуатация и ремонт автомоб.: Обзор. информ.   / М-во автомоб. Траснсп. РСФСР. ЦБНТИ, Вып. 6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Блудян Н.О. Нужна система предэксплуатационной подготов­ки новых автомобилей // Автомоб. трансп. – М., 1989. – № 5.- с.34–35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Блудян Н.О., Семенов А.А. Качество изготовления зарубеж­ных автомобилей // Сб. науч. тр. / Гос. НИИ автомоб. трансп. (НИИАТ). – М., 1988. Повышение эффективности технической эксплуатации подвижного состава AT на основе достижений НТП. с. 204–212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Блудян Н.О. Проблемы оценки качества изготовления авто­мобильной техники // Тез. докл. на Всесоюзной науч.-техн. конф. Стандартизация и повышение качества машиностроит. продукции для АПК (Бердянск, сент. 1988 г.). – М., 1988. - С.60–61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6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835280" cy="8366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3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09440" y="115920"/>
            <a:ext cx="871560" cy="9316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109440" y="1195560"/>
            <a:ext cx="378000" cy="3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1"/>
          <p:cNvSpPr/>
          <p:nvPr/>
        </p:nvSpPr>
        <p:spPr>
          <a:xfrm>
            <a:off x="755640" y="1052640"/>
            <a:ext cx="79218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buClr>
                <a:srgbClr val="000000"/>
              </a:buClr>
              <a:buFont typeface="Verdan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Блудян Н.О. Требуются уточнения // Автомоб. трансп. – М., 1988. № 11. с. 24–25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buClr>
                <a:srgbClr val="000000"/>
              </a:buClr>
              <a:buFont typeface="Verdan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Блудян Н.О., Лисковец А.М., Семенов А.А. Организация подготовки нового под­вижного состава к эксплуатации. – М., 1988. – 52 с. - (Автомоб. трансп. Сер.4, Техн. экс­плуатация и ремонт автомоб.; Обзор, информ. /М-во автомоб. трансп. РСФСР. ЦБНТИ; Вып.7)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buClr>
                <a:srgbClr val="000000"/>
              </a:buClr>
              <a:buFont typeface="Verdan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Напольский Г.М. Технологическое проектирование автотранспортных предприятий и станций технического обслуживания: Учебник для вузов. – 2-е изд., перераб. и доп. – М.: Транспорт, 1993. – 271 с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buClr>
                <a:srgbClr val="000000"/>
              </a:buClr>
              <a:buFont typeface="Verdan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Окрепилов В.В. Всеобщее управление качеством. Учебник. (в 4 книгах) – СПб.: Изд – во СПБ УЭФ, 1996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buClr>
                <a:srgbClr val="000000"/>
              </a:buClr>
              <a:buFont typeface="Verdan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етров В.Б. – Истоки и некоторые итоги создания и применения диагностического оборудования в разных странах. - М., 1991. - 64 с. - (Автомоб. трансп. Сер. Техн. эксплуатация и ремонт автомоб.: Обзор. информ.   / Концерн "Росавтотранс". Информавтотранс; Вып. 10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Down Arrow 12"/>
          <p:cNvSpPr/>
          <p:nvPr/>
        </p:nvSpPr>
        <p:spPr>
          <a:xfrm>
            <a:off x="8532720" y="6499080"/>
            <a:ext cx="432000" cy="358920"/>
          </a:xfrm>
          <a:prstGeom prst="down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Rectangle 13"/>
          <p:cNvSpPr/>
          <p:nvPr/>
        </p:nvSpPr>
        <p:spPr>
          <a:xfrm>
            <a:off x="611280" y="241200"/>
            <a:ext cx="835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ef9e2"/>
                </a:solidFill>
                <a:latin typeface="Verdana"/>
              </a:rPr>
              <a:t>БИБЛИОГРАФИЧЕСКИЙ СПИСОК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2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835280" cy="8366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7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09440" y="115920"/>
            <a:ext cx="871560" cy="9316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109440" y="1195560"/>
            <a:ext cx="378000" cy="3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1"/>
          <p:cNvSpPr/>
          <p:nvPr/>
        </p:nvSpPr>
        <p:spPr>
          <a:xfrm>
            <a:off x="826920" y="1125360"/>
            <a:ext cx="7848720" cy="479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buClr>
                <a:srgbClr val="000000"/>
              </a:buClr>
              <a:buFont typeface="Verdana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оложение о техническом обслуживании и ремонте подвижного состава автомобильного транспорта. – М.: Транспорт, 1986. – 73 с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buClr>
                <a:srgbClr val="000000"/>
              </a:buClr>
              <a:buFont typeface="Verdana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особие по размещению автостоянок, гаражей и предприятий технического обслуживания легковых автомобилей в городах и других населенных пунктах / Киев-НИИП градостроительства. – М.: Стройиздат, 1984. – 108 с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buClr>
                <a:srgbClr val="000000"/>
              </a:buClr>
              <a:buFont typeface="Verdana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рудовский Б.Д., Ухарский В.Б. Управление технической эксплуатацией автомобилей по нормативным показателям. – М.: Транспорт, 1990. – 239 с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buClr>
                <a:srgbClr val="000000"/>
              </a:buClr>
              <a:buFont typeface="Verdana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Резник Л.Г., Ромалис Г.М., Чарков С.Т. Эффективность использования автомобилей в различных условиях эксплуатации. – М.: Транспорт, 1989. – 128 с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buClr>
                <a:srgbClr val="000000"/>
              </a:buClr>
              <a:buFont typeface="Verdana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Ремонт автомобилей: Учебник для вузов / Л.В. Дехтеринский, К.Х. Акмаев, В.П. Апсин и др.; Под ред. Л.В. Дехтеринского. – М.: Транспорт, 1992. – 295 с.: ил., табл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buClr>
                <a:srgbClr val="000000"/>
              </a:buClr>
              <a:buFont typeface="Verdana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Down Arrow 12"/>
          <p:cNvSpPr/>
          <p:nvPr/>
        </p:nvSpPr>
        <p:spPr>
          <a:xfrm>
            <a:off x="8532720" y="6499080"/>
            <a:ext cx="432000" cy="358920"/>
          </a:xfrm>
          <a:prstGeom prst="down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Rectangle 13"/>
          <p:cNvSpPr/>
          <p:nvPr/>
        </p:nvSpPr>
        <p:spPr>
          <a:xfrm>
            <a:off x="611280" y="241200"/>
            <a:ext cx="835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ef9e2"/>
                </a:solidFill>
                <a:latin typeface="Verdana"/>
              </a:rPr>
              <a:t>БИБЛИОГРАФИЧЕСКИЙ СПИСОК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8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835280" cy="8366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7" descr=""/>
          <p:cNvPicPr/>
          <p:nvPr/>
        </p:nvPicPr>
        <p:blipFill>
          <a:blip r:embed="rId2"/>
          <a:stretch/>
        </p:blipFill>
        <p:spPr>
          <a:xfrm>
            <a:off x="109440" y="115920"/>
            <a:ext cx="871560" cy="9316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7" descr=""/>
          <p:cNvPicPr/>
          <p:nvPr/>
        </p:nvPicPr>
        <p:blipFill>
          <a:blip r:embed="rId3"/>
          <a:stretch/>
        </p:blipFill>
        <p:spPr>
          <a:xfrm>
            <a:off x="109440" y="1195560"/>
            <a:ext cx="378000" cy="3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12"/>
          <p:cNvSpPr/>
          <p:nvPr/>
        </p:nvSpPr>
        <p:spPr>
          <a:xfrm>
            <a:off x="250920" y="-11436480"/>
            <a:ext cx="7993080" cy="91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Говорущенко Н.Я. М. - Место и роль диагностики в условиях новой концепции ее развития. - М., 1991. - 52 с. - (Автомоб. трансп. Сер. Техн. эксплуатация и ремонт автомоб.: Обзор. информ.   / Концерн "Росавтотранс". Информавтотранс; Вып. 8). Стр 24 - 37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Говорущенко Н.Я. Место и роль диагностики в условиях новой концепции ее развития. - М., 1991. - 52 с. - (Автомоб. трансп. Сер. Техн. эксплуатация и ремонт автомоб.: Обзор. информ.   / Концерн "Росавтотранс". Информавтотранс; Вып. 8). Стр 2 – 14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Ибраев К.А., Рошаль Л.Я. Основы сертификации на автомобильном транспорте. Учебно – методическое пособие. – Научно – исследовательский центр Системы сертификации и технического контроля на автомобильном транспорте – НИИАТ. – М.: 1994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Кузнецов Е.С. Управление технической эксплуатацией автомобилей. – 2-е изд., перераб. и доп. – М.: Транспорт, 1990. – 272 с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Кузнецов Е.С. – Применение компьютерной техники на автомобильном транспорте США. - М., 1990. - 62 с. - (Автомоб. трансп. Сер. Техн. эксплуатация и ремонт автомоб.: Обзор. информ.   / М-во автомоб. трасп. РСФСР, ЦБНТИ; JSSN 0202-0998; Вып.1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Кузнецов Е.С., Курников И.П. Производственная база автомобильного транспорта: Состояние и перспективы. – М.: Транспорт, 1988. – 231 с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Лохов А.Н. Организация управления на автомобильном транспорте: Опыт. Проблемы. Перспективы. – М.: Транспорт, 1987. – 272 с.: ил.; табл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Мороз С.М. – Задачи современного развития диагностики автомобилей. - М., 1990. - 60 с. - (Автомоб. трансп. Сер. Техн. эксплуатация и ремонт автомоб.: Обзор. информ.   / М-во автомоб. трасп. РСФСР, ЦБНТИ; JSSN 0202-0998; Вып. 7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Мороз С.М. – Автоматизация контроля состояния и работы автомобилей с использованием бортовых систем - М., 1990. - 48 с. - (Автомоб. трансп. Сер. Техн. эксплуатация и ремонт автомоб.: Обзор. информ.   / М-во автомоб. трасп. РСФСР, ЦБНТИ; JSSN 0202-0998; Вып. 3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Rectangle 1"/>
          <p:cNvSpPr/>
          <p:nvPr/>
        </p:nvSpPr>
        <p:spPr>
          <a:xfrm>
            <a:off x="755640" y="954000"/>
            <a:ext cx="79930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buClr>
                <a:srgbClr val="000000"/>
              </a:buClr>
              <a:buFont typeface="Verdana"/>
              <a:buAutoNum type="arabicPeriod" startAt="1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Роговцев В.Л. и др. Устройство и эксплуатация автотранспортных средств: Учебник водителя/ Роговцев В.Л., Пузанков А.Г., Олдфильд В.Д. – М.: Транспорт, 1991. – 432 с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buClr>
                <a:srgbClr val="000000"/>
              </a:buClr>
              <a:buFont typeface="Verdana"/>
              <a:buAutoNum type="arabicPeriod" startAt="1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Сильянов В.В. Транспортно-эксплуатационные качества автомобильных дорог. – М.: Транспорт, 1984. – 287 с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buClr>
                <a:srgbClr val="000000"/>
              </a:buClr>
              <a:buFont typeface="Verdana"/>
              <a:buAutoNum type="arabicPeriod" startAt="1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Техническая эксплуатация автомобилей: Учебник для вузов / Е.С. Кузнецов, В.П. Воронов, А.П. Болдин и др.; Под ред. Е.С. Кузнецова. – 3-е изд., перераб. и доп. – М.: Транспорт, 1991. – 413 с.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buClr>
                <a:srgbClr val="000000"/>
              </a:buClr>
              <a:buFont typeface="Verdana"/>
              <a:buAutoNum type="arabicPeriod" startAt="1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Техническая эксплуатация автомобилей: Учебник для вузов / Е.С. Кузнецов, В.М. Власов, А.П. Болдин и др.; Под ред. Е.С. Кузнецова. – 4-е изд., перераб. и доп. – М.: Наука, 2001. – 535 с.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buClr>
                <a:srgbClr val="000000"/>
              </a:buClr>
              <a:buFont typeface="Verdana"/>
              <a:buAutoNum type="arabicPeriod" startAt="1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Техническая эксплуатация автомобилей: Учебник для ВУЗов/ Под ред. Г.В. Крамаренко. – 2-е изд., перераб. и доп. – М.: Транспорт, 1983. – 488 с., ил., табл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buClr>
                <a:srgbClr val="000000"/>
              </a:buClr>
              <a:buFont typeface="Verdana"/>
              <a:buAutoNum type="arabicPeriod" startAt="1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Техническое обслуживание и ремонт автомобилей: Учебник для ПТУ / С.И. Румянцев, А.Ф. Синельников, Ю.Л. Штоль. – М.: Машиностроение, 1989. – 272 с.: ил.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Down Arrow 13"/>
          <p:cNvSpPr/>
          <p:nvPr/>
        </p:nvSpPr>
        <p:spPr>
          <a:xfrm>
            <a:off x="8532720" y="6499080"/>
            <a:ext cx="432000" cy="358920"/>
          </a:xfrm>
          <a:prstGeom prst="down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Rectangle 12"/>
          <p:cNvSpPr/>
          <p:nvPr/>
        </p:nvSpPr>
        <p:spPr>
          <a:xfrm>
            <a:off x="611280" y="241200"/>
            <a:ext cx="835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ef9e2"/>
                </a:solidFill>
                <a:latin typeface="Verdana"/>
              </a:rPr>
              <a:t>БИБЛИОГРАФИЧЕСКИЙ СПИСОК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5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835280" cy="8366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7" descr=""/>
          <p:cNvPicPr/>
          <p:nvPr/>
        </p:nvPicPr>
        <p:blipFill>
          <a:blip r:embed="rId2"/>
          <a:stretch/>
        </p:blipFill>
        <p:spPr>
          <a:xfrm>
            <a:off x="109440" y="115920"/>
            <a:ext cx="871560" cy="9316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8" descr=""/>
          <p:cNvPicPr/>
          <p:nvPr/>
        </p:nvPicPr>
        <p:blipFill>
          <a:blip r:embed="rId3"/>
          <a:stretch/>
        </p:blipFill>
        <p:spPr>
          <a:xfrm>
            <a:off x="109440" y="1195560"/>
            <a:ext cx="378000" cy="3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12"/>
          <p:cNvSpPr/>
          <p:nvPr/>
        </p:nvSpPr>
        <p:spPr>
          <a:xfrm>
            <a:off x="826920" y="1197000"/>
            <a:ext cx="7993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buClr>
                <a:srgbClr val="000000"/>
              </a:buClr>
              <a:buFont typeface="Verdana"/>
              <a:buAutoNum type="arabicPeriod" startAt="2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Фастовцев Г.Ф. Автотехобслуживание. – М.: Машиностроение, 1985. – 254 с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buClr>
                <a:srgbClr val="000000"/>
              </a:buClr>
              <a:buFont typeface="Verdana"/>
              <a:buAutoNum type="arabicPeriod" startAt="2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Фастовцев Г.Ф. Организация технического обслуживания и ремонта легковых автомобилей: Учеб. пособие для учащихся автотрансп. техникумов. – 2-е изд., перераб. и доп. – М.: Транспорт, 1989. – 240  с.: ил., табл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Rectangle 10"/>
          <p:cNvSpPr/>
          <p:nvPr/>
        </p:nvSpPr>
        <p:spPr>
          <a:xfrm>
            <a:off x="611280" y="241200"/>
            <a:ext cx="835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ef9e2"/>
                </a:solidFill>
                <a:latin typeface="Verdana"/>
              </a:rPr>
              <a:t>БИБЛИОГРАФИЧЕСКИЙ СПИСОК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0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835280" cy="8366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5" descr=""/>
          <p:cNvPicPr/>
          <p:nvPr/>
        </p:nvPicPr>
        <p:blipFill>
          <a:blip r:embed="rId2"/>
          <a:stretch/>
        </p:blipFill>
        <p:spPr>
          <a:xfrm>
            <a:off x="109440" y="115920"/>
            <a:ext cx="871560" cy="9316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6" descr=""/>
          <p:cNvPicPr/>
          <p:nvPr/>
        </p:nvPicPr>
        <p:blipFill>
          <a:blip r:embed="rId3"/>
          <a:stretch/>
        </p:blipFill>
        <p:spPr>
          <a:xfrm>
            <a:off x="109440" y="1195560"/>
            <a:ext cx="378000" cy="3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0T08:56:31Z</dcterms:created>
  <dc:creator>Admin</dc:creator>
  <dc:description/>
  <dc:language>en-US</dc:language>
  <cp:lastModifiedBy>Admin</cp:lastModifiedBy>
  <dcterms:modified xsi:type="dcterms:W3CDTF">2009-08-24T10:13:28Z</dcterms:modified>
  <cp:revision>19</cp:revision>
  <dc:subject/>
  <dc:title>PowerPoint Presentation</dc:title>
</cp:coreProperties>
</file>