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8.wmf" ContentType="image/x-wmf"/>
  <Override PartName="/ppt/media/image27.wmf" ContentType="image/x-wmf"/>
  <Override PartName="/ppt/media/image15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5100-6EA2-4101-A1AF-8F8C8AD68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8273-541B-4C83-A2FD-4760C6D6A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08E1-FEEA-477C-9B70-F162AD58C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6275-857B-4F4C-9EA1-A39268FDB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786F0-0B1E-4D97-9019-2896440E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3EBED-ABCB-4BB6-987E-C256836B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C01EC-7B45-4C3A-A729-8CF81EB0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E03FD-9741-48C2-9595-F4E897A7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4A317-66F0-45BA-858F-58089DD8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A6FB4-8788-4390-8E80-7B5FE318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F80CB-F20F-4513-8B41-247F472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FED5-E710-46E0-8832-AC0BB7A8E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33AA5-C029-4A7A-9DB0-41FA8A5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83609-5640-4971-B370-202CBC1F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04F13-E720-4A2E-A925-087254C2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A8324-1322-4B2C-A0A8-550F7A6A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EF79A-61F0-45D4-9715-8512BDB6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23DB-6BEA-4529-AA6A-2178EEFA9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9FDA-D8F0-4EAD-9A2F-9B789983B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3C55-FEF7-4D17-A092-9F35C00F6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E15D-370B-46FE-AFA3-128208E32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3E71-5032-4449-9C94-C841B9B5D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5EB6-1635-4556-9897-6EAC65F27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541C-31FE-4708-BB84-0A1794C18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3DE2-FBCB-4126-A6B8-B33DE1245EFB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901-0218-4D91-8487-59A10EE5B93D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slide" Target="slide1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image" Target="../media/image9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63640" y="1763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1 Источники и  методы получения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763640" y="2565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2 Документооборот, планирование и учет в системах поддержания работоспособност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8040" y="1768320"/>
            <a:ext cx="596880" cy="438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01800" y="2670120"/>
            <a:ext cx="598320" cy="438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Глава 4. Информационное обеспечение системы управления производством на  АТП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971640" y="577800"/>
            <a:ext cx="7461000" cy="3930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062000" y="4149720"/>
            <a:ext cx="7326360" cy="2657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7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8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6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861320" cy="576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6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168560" y="677880"/>
            <a:ext cx="7148520" cy="577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31760" y="549360"/>
            <a:ext cx="7367760" cy="6308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1062000" y="849240"/>
            <a:ext cx="7326360" cy="5316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611280" y="18900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2 Документооборот, планирование и учет в системах поддержания работоспособно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1" descr=""/>
          <p:cNvPicPr/>
          <p:nvPr/>
        </p:nvPicPr>
        <p:blipFill>
          <a:blip r:embed="rId1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"/>
          <p:cNvPicPr/>
          <p:nvPr/>
        </p:nvPicPr>
        <p:blipFill>
          <a:blip r:embed="rId2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3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4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5"/>
          <p:cNvSpPr/>
          <p:nvPr/>
        </p:nvSpPr>
        <p:spPr>
          <a:xfrm>
            <a:off x="611280" y="18900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2 Документооборот, планирование и учет в системах поддержания работоспособно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5"/>
          <a:stretch/>
        </p:blipFill>
        <p:spPr>
          <a:xfrm>
            <a:off x="900000" y="836640"/>
            <a:ext cx="7813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44720" y="1341360"/>
            <a:ext cx="7488000" cy="426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611280" y="18900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2 Документооборот, планирование и учет в системах поддержания работоспособно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985680" y="1197000"/>
            <a:ext cx="7473960" cy="464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5"/>
          <p:cNvSpPr/>
          <p:nvPr/>
        </p:nvSpPr>
        <p:spPr>
          <a:xfrm>
            <a:off x="611280" y="18900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2 Документооборот, планирование и учет в системах поддержания работоспособно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274160" cy="301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7345440" cy="2665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6"/>
          <p:cNvSpPr/>
          <p:nvPr/>
        </p:nvSpPr>
        <p:spPr>
          <a:xfrm>
            <a:off x="611280" y="18900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2 Документооборот, планирование и учет в системах поддержания работоспособно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1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738504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116000" y="792000"/>
            <a:ext cx="7078680" cy="606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5"/>
          <p:cNvSpPr/>
          <p:nvPr/>
        </p:nvSpPr>
        <p:spPr>
          <a:xfrm>
            <a:off x="611280" y="18900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2 Документооборот, планирование и учет в системах поддержания работоспособно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12" descr=""/>
          <p:cNvPicPr/>
          <p:nvPr/>
        </p:nvPicPr>
        <p:blipFill>
          <a:blip r:embed="rId1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"/>
          <p:cNvPicPr/>
          <p:nvPr/>
        </p:nvPicPr>
        <p:blipFill>
          <a:blip r:embed="rId2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"/>
          <p:cNvPicPr/>
          <p:nvPr/>
        </p:nvPicPr>
        <p:blipFill>
          <a:blip r:embed="rId3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"/>
          <p:cNvPicPr/>
          <p:nvPr/>
        </p:nvPicPr>
        <p:blipFill>
          <a:blip r:embed="rId4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542360" cy="39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326360" cy="531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843120" y="907920"/>
            <a:ext cx="7905600" cy="547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320840" y="549360"/>
            <a:ext cx="6851520" cy="639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7089840" cy="6308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488360" cy="2716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25440" y="1628640"/>
            <a:ext cx="8567640" cy="400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5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4.1 Источники и  методы получения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8:56:31Z</dcterms:created>
  <dc:creator>Admin</dc:creator>
  <dc:description/>
  <dc:language>en-US</dc:language>
  <cp:lastModifiedBy>Admin</cp:lastModifiedBy>
  <dcterms:modified xsi:type="dcterms:W3CDTF">2009-08-26T08:55:21Z</dcterms:modified>
  <cp:revision>31</cp:revision>
  <dc:subject/>
  <dc:title>PowerPoint Presentation</dc:title>
</cp:coreProperties>
</file>