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5.wmf" ContentType="image/x-wmf"/>
  <Override PartName="/ppt/media/image3.wmf" ContentType="image/x-wmf"/>
  <Override PartName="/ppt/media/image26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30605-5205-4098-A332-A13ECD5BF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BD80D-85A9-4F27-BB18-113EE187A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07995-E4D6-4165-AB76-EF18BDE71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18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86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44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18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86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2C078-294B-47F0-BACC-CEA08D6D2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A2378-D878-4472-AF52-E1A64650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E9876-75D8-45D4-8491-96331F06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9045D-F66E-4472-807D-012FF0CC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7FE23-E042-485B-85E5-5A7B3138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72D4C-5122-4499-9F3D-57F43DA9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12204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0F455-BA16-4D8F-AF61-8195067C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4324C-D814-479D-9DDC-4C3F0DE0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E343E-C732-416B-86DF-3737E1FD8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13829-526D-4A21-8BF3-B809ABBD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3DDB9-D3EF-439A-89F8-25E01634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6B857-BAB3-4456-BA48-CC96BC9E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6B976-1758-4EA8-A78B-F282125A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18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86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18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86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6D716-1A56-4328-8626-4C601F52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3B5CE-1DEC-4BA4-B333-54E8DCBC2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D0057-44D5-4577-8A45-525CEFAD0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32301-6C64-4F75-81C7-CC7FE29F6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12204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0FDC4-8E7D-498B-9ABF-3A6BF909F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9F3A-DC35-4804-A445-FD5563BE4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4764D-7AD8-460D-BC44-24F31C29C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AC3B2-0D80-44ED-B696-85A578A67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-9360"/>
            <a:ext cx="9144000" cy="847440"/>
          </a:xfrm>
          <a:prstGeom prst="rect">
            <a:avLst/>
          </a:prstGeom>
          <a:gradFill rotWithShape="0">
            <a:gsLst>
              <a:gs pos="0">
                <a:srgbClr val="392419"/>
              </a:gs>
              <a:gs pos="100000">
                <a:srgbClr val="7c4d3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8964720" y="836640"/>
            <a:ext cx="179280" cy="5832360"/>
          </a:xfrm>
          <a:prstGeom prst="rect">
            <a:avLst/>
          </a:prstGeom>
          <a:gradFill rotWithShape="0">
            <a:gsLst>
              <a:gs pos="0">
                <a:srgbClr val="7c4d36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836640"/>
            <a:ext cx="611280" cy="6033960"/>
          </a:xfrm>
          <a:prstGeom prst="rect">
            <a:avLst/>
          </a:prstGeom>
          <a:gradFill rotWithShape="0">
            <a:gsLst>
              <a:gs pos="0">
                <a:srgbClr val="d3a553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11280" y="6467400"/>
            <a:ext cx="8532720" cy="40500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3a5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60958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8095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C1ED-5FB1-416A-BFFB-E1D0A90F38E7}" type="slidenum">
              <a:rPr b="0" lang="ru-RU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pic>
        <p:nvPicPr>
          <p:cNvPr id="8" name="Picture 20" descr=""/>
          <p:cNvPicPr/>
          <p:nvPr/>
        </p:nvPicPr>
        <p:blipFill>
          <a:blip r:embed="rId2"/>
          <a:stretch/>
        </p:blipFill>
        <p:spPr>
          <a:xfrm>
            <a:off x="0" y="-4680"/>
            <a:ext cx="596880" cy="841320"/>
          </a:xfrm>
          <a:prstGeom prst="rect">
            <a:avLst/>
          </a:prstGeom>
          <a:ln w="0">
            <a:noFill/>
          </a:ln>
        </p:spPr>
      </p:pic>
      <p:sp>
        <p:nvSpPr>
          <p:cNvPr id="9" name="Text Box 21"/>
          <p:cNvSpPr/>
          <p:nvPr/>
        </p:nvSpPr>
        <p:spPr>
          <a:xfrm rot="16200000">
            <a:off x="-541800" y="541872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2"/>
          <p:cNvSpPr/>
          <p:nvPr/>
        </p:nvSpPr>
        <p:spPr>
          <a:xfrm>
            <a:off x="3132000" y="3716280"/>
            <a:ext cx="5400720" cy="1441440"/>
          </a:xfrm>
          <a:prstGeom prst="rect">
            <a:avLst/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9"/>
          <p:cNvSpPr/>
          <p:nvPr/>
        </p:nvSpPr>
        <p:spPr>
          <a:xfrm>
            <a:off x="1600200" y="3716280"/>
            <a:ext cx="1724040" cy="144144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21" descr=""/>
          <p:cNvPicPr/>
          <p:nvPr/>
        </p:nvPicPr>
        <p:blipFill>
          <a:blip r:embed="rId2"/>
          <a:stretch/>
        </p:blipFill>
        <p:spPr>
          <a:xfrm>
            <a:off x="1609560" y="0"/>
            <a:ext cx="7045560" cy="3716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7c4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30492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23"/>
          <p:cNvSpPr/>
          <p:nvPr/>
        </p:nvSpPr>
        <p:spPr>
          <a:xfrm rot="5400000">
            <a:off x="8057880" y="4163760"/>
            <a:ext cx="1420920" cy="503280"/>
          </a:xfrm>
          <a:prstGeom prst="triangle">
            <a:avLst>
              <a:gd name="adj" fmla="val 50000"/>
            </a:avLst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3a5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4d3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3241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C68D-654E-4090-8AEF-75EAFF441F14}" type="slidenum">
              <a:rPr b="0" lang="ru-RU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hyperlink" Target="file:///&#1054;&#1088;&#1075;&#1072;&#1085;&#1080;&#1079;&#1072;&#1094;&#1080;&#1103;%20&#1087;&#1088;&#1086;&#1080;&#1079;&#1074;&#1086;&#1076;&#1089;&#1090;&#1074;&#1072;%20&#1085;&#1072;%20&#1087;&#1088;&#1077;&#1076;&#1087;&#1088;&#1080;&#1103;&#1090;&#1080;&#1103;&#1093;%20&#1086;&#1090;&#1088;&#1072;&#1089;&#1083;&#1080;.ppt" TargetMode="External"/><Relationship Id="rId4" Type="http://schemas.openxmlformats.org/officeDocument/2006/relationships/image" Target="../media/image5.png"/><Relationship Id="rId5" Type="http://schemas.openxmlformats.org/officeDocument/2006/relationships/slide" Target="slide2.xml"/><Relationship Id="rId6" Type="http://schemas.openxmlformats.org/officeDocument/2006/relationships/image" Target="../media/image6.png"/><Relationship Id="rId7" Type="http://schemas.openxmlformats.org/officeDocument/2006/relationships/slide" Target="slide6.xml"/><Relationship Id="rId8" Type="http://schemas.openxmlformats.org/officeDocument/2006/relationships/image" Target="../media/image6.png"/><Relationship Id="rId9" Type="http://schemas.openxmlformats.org/officeDocument/2006/relationships/slide" Target="slide11.xml"/><Relationship Id="rId10" Type="http://schemas.openxmlformats.org/officeDocument/2006/relationships/image" Target="../media/image6.png"/><Relationship Id="rId11" Type="http://schemas.openxmlformats.org/officeDocument/2006/relationships/slide" Target="slide17.xml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8.png"/><Relationship Id="rId3" Type="http://schemas.openxmlformats.org/officeDocument/2006/relationships/slide" Target="slide1.xml"/><Relationship Id="rId4" Type="http://schemas.openxmlformats.org/officeDocument/2006/relationships/image" Target="../media/image9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8.png"/><Relationship Id="rId3" Type="http://schemas.openxmlformats.org/officeDocument/2006/relationships/slide" Target="slide1.xml"/><Relationship Id="rId4" Type="http://schemas.openxmlformats.org/officeDocument/2006/relationships/image" Target="../media/image9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2" Type="http://schemas.openxmlformats.org/officeDocument/2006/relationships/image" Target="../media/image8.png"/><Relationship Id="rId3" Type="http://schemas.openxmlformats.org/officeDocument/2006/relationships/slide" Target="slide1.xml"/><Relationship Id="rId4" Type="http://schemas.openxmlformats.org/officeDocument/2006/relationships/image" Target="../media/image9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839960" y="162864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1 Общие вопрос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911600" y="248292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2 Классификация метод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935720" y="3348000"/>
            <a:ext cx="35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3 Априорное ранжир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835280" y="414036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4 Применение метода Дельфи при выработке реш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"/>
          <p:cNvPicPr/>
          <p:nvPr/>
        </p:nvPicPr>
        <p:blipFill>
          <a:blip r:embed="rId2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78040" y="1547640"/>
            <a:ext cx="596880" cy="439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611280" y="1810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Глава 3. Методы принятия решения в условиях дефицита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7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901800" y="2414520"/>
            <a:ext cx="598320" cy="438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901800" y="3346560"/>
            <a:ext cx="598320" cy="439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901800" y="4102200"/>
            <a:ext cx="598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4"/>
          <p:cNvSpPr/>
          <p:nvPr/>
        </p:nvSpPr>
        <p:spPr>
          <a:xfrm>
            <a:off x="611280" y="263700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Лекция окончена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5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6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3.3 Априорное ранжиров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900000" y="442800"/>
            <a:ext cx="7797960" cy="5938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55640" y="858960"/>
            <a:ext cx="7875720" cy="5306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3.3 Априорное ранжиров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789120" y="1197000"/>
            <a:ext cx="7886520" cy="4495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3.3 Априорное ранжиров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917640" y="549360"/>
            <a:ext cx="7542000" cy="597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3.3 Априорное ранжиров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811080" y="1660680"/>
            <a:ext cx="7937640" cy="2055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4"/>
          <p:cNvSpPr/>
          <p:nvPr/>
        </p:nvSpPr>
        <p:spPr>
          <a:xfrm>
            <a:off x="611280" y="263700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Лекция окончена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5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6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632720" cy="3834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3.4 Применение метода Дельфи при выработке ре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921800" cy="2873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3.4 Применение метода Дельфи при выработке ре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979560" y="1125360"/>
            <a:ext cx="7480080" cy="4702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8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3.4 Применение метода Дельфи при выработке ре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3.1 Общие вопрос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883640" cy="5327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547640" y="865080"/>
            <a:ext cx="6286680" cy="5516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8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3.4 Применение метода Дельфи при выработке ре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1114560" y="836640"/>
            <a:ext cx="7129440" cy="5600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797040" y="1773360"/>
            <a:ext cx="7807320" cy="3825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3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4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5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8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3.4 Применение метода Дельфи при выработке ре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4"/>
          <p:cNvSpPr/>
          <p:nvPr/>
        </p:nvSpPr>
        <p:spPr>
          <a:xfrm>
            <a:off x="611280" y="263700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Лекция окончена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3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4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63480" y="620640"/>
            <a:ext cx="8012160" cy="4681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3.1 Общие вопрос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58160" cy="2062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3.1 Общие вопрос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4"/>
          <p:cNvSpPr/>
          <p:nvPr/>
        </p:nvSpPr>
        <p:spPr>
          <a:xfrm>
            <a:off x="611280" y="263700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Лекция окончена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5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6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3.2 Классификация метод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572600" cy="5545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848720" cy="3322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3.2 Классификация метод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71640" y="2509920"/>
            <a:ext cx="7632720" cy="237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8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3.2 Классификация метод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971640" y="1001880"/>
            <a:ext cx="7554960" cy="5091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62200"/>
            <a:ext cx="439920" cy="37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8260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6"/>
          <a:stretch/>
        </p:blipFill>
        <p:spPr>
          <a:xfrm>
            <a:off x="0" y="-1440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7"/>
          <a:stretch/>
        </p:blipFill>
        <p:spPr>
          <a:xfrm>
            <a:off x="109440" y="103320"/>
            <a:ext cx="871560" cy="9334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8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3.2 Классификация метод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07:44:22Z</dcterms:created>
  <dc:creator>Admin</dc:creator>
  <dc:description/>
  <dc:language>en-US</dc:language>
  <cp:lastModifiedBy>Admin</cp:lastModifiedBy>
  <dcterms:modified xsi:type="dcterms:W3CDTF">2009-08-25T10:30:54Z</dcterms:modified>
  <cp:revision>31</cp:revision>
  <dc:subject/>
  <dc:title>PowerPoint Presentation</dc:title>
</cp:coreProperties>
</file>